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6C5-0CF8-43AB-BE30-CF59F331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CF5-7728-403A-A2FC-9DC2BD93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ADD-01E9-4297-8167-05151C2B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8D8-FABF-464E-9E56-86FD5A85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71D-06BC-4C05-999E-4C836A0F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34E-B0A7-4EF5-B3D5-7DD62EF0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257-E606-4F8E-9750-E13CB6EC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F61-9E0F-444A-9099-0E92E121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674-3702-41E9-B3E9-0B93C070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FEE-EDFA-44A4-8689-382EE1B2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A61-AC4E-4C31-B241-6276CFA7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9E2-ECE6-45B1-B284-811B8F8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E2B9B-D7F7-4753-A197-D531399EEE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D672E-95FB-4D9B-80ED-0858D582A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roup 2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had Al-Em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ssica N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k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ek Bessa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in the 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y Fi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age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ise in the 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rses S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qui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Long Ha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ff talking with Patients and amongst themsel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ffic of pat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rses had to repeat themselves (not heard over the nois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Kinds of Noi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ne Rin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tesy ph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ing of He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conversations at o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f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 up near the parking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ge in hallways un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escorted tr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wayfi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e at Reg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Registration (Quick R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up for taking vital signs upon arr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is placed into the Information System at that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is quite lengthy (15mins per pati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registration l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0:22:08Z</dcterms:created>
  <dc:creator>Jessica Nance</dc:creator>
  <dc:description/>
  <dc:language>en-US</dc:language>
  <cp:lastModifiedBy> </cp:lastModifiedBy>
  <dcterms:modified xsi:type="dcterms:W3CDTF">2008-09-22T02:17:03Z</dcterms:modified>
  <cp:revision>5</cp:revision>
  <dc:subject/>
  <dc:title>Observations at Emory </dc:title>
</cp:coreProperties>
</file>